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564-9593-4240-98B5-0933D92E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8C1-9349-4AAE-8641-62397EE0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3F0-12AB-40FD-9EE7-24E8ABA9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454-8490-43C4-A00D-4208715C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CE9-07CD-466F-B94F-16B9DC79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189-16A5-419B-901E-9AA9C2AC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F64-6717-44A3-A252-34FD5CD4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D37-0AB5-4D3D-9F1D-2C4AC7D0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ED7-593F-4425-81E3-78FEE848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B27-7424-4C9E-A80E-23A45C1D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C71-5ADB-44CA-A480-D43ADCFA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63B-7B20-4F4E-983B-147FBB97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5D95-04ED-4C6E-AF6B-C8471ABCE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aamat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600200"/>
            <a:ext cx="7086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Estimating Sums and Differenc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of Decim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95280"/>
            <a:ext cx="914400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use estimation for getting an approximate value for multiplying, dividing, adding, and subtracting. Another kind of estimation is front-end estimation. How to front end estimation is on the next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533520"/>
            <a:ext cx="719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y Do You Use Estimation?</a:t>
            </a:r>
            <a:endParaRPr b="0" lang="en-US" sz="1800" spc="1" strike="noStrike">
              <a:ln w="0">
                <a:noFill/>
              </a:ln>
              <a:solidFill>
                <a:srgbClr val="33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457200"/>
            <a:ext cx="793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to do Front End Estim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53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d or subtract the first two dig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d or subtract the next two digits in the next place valu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 not do anything with the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38280" y="3657600"/>
            <a:ext cx="304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8120" y="3657600"/>
            <a:ext cx="30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657600" y="3657600"/>
            <a:ext cx="457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181480"/>
            <a:ext cx="3048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5120" y="4495680"/>
            <a:ext cx="380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9920" y="3657600"/>
            <a:ext cx="30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629400" y="3657600"/>
            <a:ext cx="304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8880" y="3657600"/>
            <a:ext cx="457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5181480"/>
            <a:ext cx="3048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486400" y="4495680"/>
            <a:ext cx="380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38280" y="52578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705720" y="52578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5880" y="52578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n you have an approximate value of what you would have gotten with the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8600" y="1676520"/>
            <a:ext cx="7632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8098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57640" y="2133720"/>
            <a:ext cx="114300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590920"/>
            <a:ext cx="6781680" cy="990360"/>
          </a:xfrm>
          <a:prstGeom prst="line">
            <a:avLst/>
          </a:prstGeom>
          <a:ln w="7632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3505320"/>
            <a:ext cx="685800" cy="152388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21472200">
            <a:off x="1066680" y="380880"/>
            <a:ext cx="67057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ope This Hel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809880"/>
            <a:ext cx="8077320" cy="916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is isn’t enough this website might give you a little bit more. Just click on this link right her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aaamath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 There are lots of math topics if you just don’t want front end estim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3:56:19Z</dcterms:created>
  <dc:creator>Kids</dc:creator>
  <dc:description/>
  <dc:language>en-US</dc:language>
  <cp:lastModifiedBy>Kids</cp:lastModifiedBy>
  <dcterms:modified xsi:type="dcterms:W3CDTF">2008-10-17T01:07:23Z</dcterms:modified>
  <cp:revision>3</cp:revision>
  <dc:subject/>
  <dc:title>Slide 1</dc:title>
</cp:coreProperties>
</file>